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9BE3-34B1-4B3A-9150-A7530679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45E0-ED60-4532-AC1F-F9DBE7D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8CB-2FF9-4A83-B77D-A03B7572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6687-E471-45D6-84FA-571B1B3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C0D2-8464-44C1-8B95-01220996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E9D2-6EBC-4468-842A-767DDE32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227-0150-4F15-B082-A41EBF7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86A4-24B4-42E3-A939-B9805926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81CC-FB95-49B4-98FD-1FB3358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9BE-6176-42BA-801B-5C42ACE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F77-99D0-4270-B0A9-7C8B1B8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F732-70DF-45FB-920D-3FFD7561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A17-19DF-4BC5-8874-B59D7AB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BE6-CDE3-490C-A340-CA35120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4E1F-F79A-4B50-A99E-B95934ED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7EBE-2B5A-4A5D-8FE2-37C7EFF1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471-4D34-4E2C-91CB-1F786E2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BE9C-6DAC-4DCC-B2F4-5BB6212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ED67-4B27-4749-871C-94ED1D4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3380-E73E-497F-B6BF-92DA7B1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D695-78C1-44ED-91C3-A81F2E7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D5C4-7DE9-44DA-BA48-5718EC0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DDAB-2CA4-4733-9B9F-17032A1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2DFC-9849-43AF-810C-5225ED2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498E-0908-4031-8D3E-C19FB0A5E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B653-F1DF-4115-B6F1-77EE0DD55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3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ff"/>
                </a:solidFill>
                <a:latin typeface="Arial"/>
              </a:rPr>
              <a:t>Closing the Literacy Gap for ELLs</a:t>
            </a:r>
            <a:br>
              <a:rPr sz="6000"/>
            </a:br>
            <a:r>
              <a:rPr b="1" lang="en-US" sz="3300" spc="-1" strike="noStrike">
                <a:solidFill>
                  <a:srgbClr val="33cccc"/>
                </a:solidFill>
                <a:latin typeface="Arial"/>
              </a:rPr>
              <a:t>Which model is most effective?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Ashley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ducation 7201: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Fall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00cc"/>
                </a:solidFill>
                <a:latin typeface="Arial"/>
              </a:rPr>
              <a:t>Introduction  -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Review of th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view of Related Literature:</a:t>
            </a:r>
            <a:r>
              <a:rPr b="0" lang="en-US" sz="25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s 4, 5, 6, 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Slid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344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403848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¡Hola!  Hel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Statement of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instruct first-grade ELLs at PSX, the school has implemented a side-by-side dual-language setting that separates L1 and L2 literacy development by classroom. For Spanish-speaking students (L1), English proficiency (L2) is below expected levels according to ECLAS-2 results and Fountas &amp; Pinnell reading lev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What’s the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30640"/>
          </a:xfrm>
          <a:prstGeom prst="rect">
            <a:avLst/>
          </a:prstGeom>
          <a:ln w="50760">
            <a:solidFill>
              <a:srgbClr val="33cccc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438200" y="156060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Reversing the Bilingual Education Act (1968) with NC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Pro - 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Early literacy instruction in a dual-language (Spanish-English) kindergar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Culatta &amp; Reese (2006)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Student Spanish use and investment in a dual language immersion classroom: Implications for second language acquisition and heritage language mainte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Potowski (2004)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Additional sources that support L1 maintenance as a literacy transfer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Lee &amp; Schallert (1997), Slavin &amp; Cheung (2005), Vaughn et al. (2006), Winsler et al. (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Con - No Native Languag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Dismantling bilingual education implementing English immersion: The California initiative.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Rossell (2002).</a:t>
            </a:r>
            <a:br>
              <a:rPr sz="2200"/>
            </a:b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Additional sources that cite English-only immersion models as m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Helmsley, Holm &amp; Dodd (200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Leung, et al. (20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Garcia, E. (2007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  <a:ea typeface="굴림"/>
              </a:rPr>
              <a:t>States in agreement -  California, Arizona, Georgia, Massachuset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Bilingual Education Theo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James Cummins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Bilingualism and special education: Programs and pedagogical issues (198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udents must receive sufficient comprehensible input in the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arget languag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maintaining ties to the native langu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Ofelia Gar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2276640" cy="123840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Statement of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¹: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 of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bilingu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small-group literacy instruction in English Classroom A that is implemented two times a week over a four-month period will increase L2 proficiency of Spanish-speaking ELLs in the dual-language program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(ECLAS-2, Fountas &amp; Pinnell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²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lingual small-group literacy instruction in English Classroom A will yield a greater improvement compared to English Classroom 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666800" cy="115416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9680" y="456840"/>
            <a:ext cx="7647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arlo, M.S., August, D., McLaughlin, B., Snow, C. E., Dressler, C., Lippman, D., . . . White, C. E. (2004).  Closing the gap: Addressing the vocabulary needs of English language learners in bilingual and mainstream classrooms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eading Research Quarterly, 39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 188-2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ombs, M. C., Evans, C., Fletcher, T., Parra, E., &amp; Jiménez, A. (2005).  Bilingualism for the children :  Implementing a dual-language program in an English-only state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Educational Policy, 19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701-727.  doi:  10.1177/089590480527806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ulatta, B., Reese, M., &amp; Setzer, L. (2006).  Early literacy instruction in a dual-language (Spanish-English) kindergarten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ommunication Disorders Quarterly, 27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, 67-82.   doi:  10.1177/1525740106027002051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ummins, J. (1983).  Bilingualism and special education: Programs and pedagogical issue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arning Disability Quarterly, 6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, Autumn, 373-38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Garcia, E. (2007).  Education comes in diverse shapes and forms for U.S. bilinguals. In J, Noel, (Ed.),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Multicultural Education, 2nd ed.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  138-144.  New York: McGraw Hi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Garcia, O. (2008).  Bilingual education in the 21st century.  West Sussex, United Kingdom:  Wiley-Blackwe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Helmsley, G., Holm, A., &amp; Dodd, B. (2006).  Diverse but not different:  The lexical skills of two primary age bilingual groups in comparison to monolingual peer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International Journal of Bilingualism, 10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. 453-476. doi:  10.1177/136700690601000404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e, J., &amp; Schallert, D. L. (1997).  The relative contribution of L2 language proficiency and L1 reading ability to L2 reading performance: A test of the threshold hypothesis in an EFL context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ESOL Quarterly. 31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. 713-739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ung, C. B., Silverman, R., Nandakumar, R., Qian, X., &amp; Hines, S. (2010).  A comparison of difficulty levels of vocabulary in first grade basal readers for preschool dual language learners and monolingual English learners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 American Education Research Journal. 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doi:  10.3102/0002831210382890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Potowski, K. (2004). Student Spanish use and investment in a dual language immersion classroom: Implications for second language acquisition and heritage language maintenance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he Modern Language Journal, 88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1)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Spring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75-1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ossell, C. (2002).  Dismantling bilingual education implementing English immersion: The California initiative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Public Policy Inst. of California, San Francisco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.  ERIC Document Reproduction  Service No. ED467063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Slavin, E., &amp; Cheung, A. (2005).   A synthesis of research on language of reading instruction for English language learners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eview of Educational Research, 75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.  Summer, 247-284. </a:t>
            </a:r>
            <a:r>
              <a:rPr b="0" lang="en" sz="1000" spc="-1" strike="noStrike">
                <a:solidFill>
                  <a:srgbClr val="6600cc"/>
                </a:solidFill>
                <a:latin typeface="Arial"/>
                <a:ea typeface="굴림"/>
              </a:rPr>
              <a:t>doi: 10.3102/0034654307500224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ong, V., Lara-Alecio, R., Irby, B., Mathes, P., &amp; Kwok, O. M. (2008).  Accelerating early academic oral English development in transitional bilingual and structure English immersion program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American Educational Research Journal, 45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, 1011-1044.       doi:  10.3102/0002831208320790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Vaughn, S., Linan-Thompson, S., Mathes, P. G., Cirino, P. T., Carlson, C. D., Pollard-Durodola, S. D., . . . Francis, D. J. (2006).  Effectiveness of Spanish intervention for first-grade English language learners at risk for reading difficultie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Journal of Learning Disabilities, 39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1), 56-73.  doi:  10.1177/002221940603900106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Winsler, A., Diaz, R., Espinoza, L., Rodriguez, J. (1999).  When learning a second language does not mean losing the first: Bilingual language development in low-income, Spanish-speaking children attending bilingual preschool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hild Development, 70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. 349-36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Mark A. Martin</cp:lastModifiedBy>
  <dcterms:modified xsi:type="dcterms:W3CDTF">2010-10-09T19:08:22Z</dcterms:modified>
  <cp:revision>24</cp:revision>
  <dc:subject/>
  <dc:title>Helping Our ELL Students Succeed: Finding the Right Setting</dc:title>
</cp:coreProperties>
</file>